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45B6-7DE3-40FF-B9FD-8FA65AA04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AEA8-7C7B-4D73-88B6-9550EE65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08CD-7624-4A0C-9666-70EA5612F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43A5-5D59-44ED-85A0-867170E1F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4E40-125E-4F76-B125-654A510F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DFEF-4C61-4B9A-8547-14DF9845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BAF6-F881-4EE8-89CE-259B4A96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43FD-F911-4104-B408-30F344C2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1061-800A-4FDF-9C98-AE6AE15F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AB95-AA0E-44FA-B376-57D42CF5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8BD4-8242-4BD5-8E6E-824F4CFC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AF19-7C40-4298-9A4D-FD66B97C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E978-77DD-422D-B4F6-75C707F3F0F3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33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Earthquake In A MEDC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98989"/>
                </a:solidFill>
                <a:latin typeface="Calibri"/>
              </a:rPr>
              <a:t>Japan, 199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What Happene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earthquake occurred at 5.46am on the 17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January 1995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t measured 7.2 on the Richter Scale and lasted 20 second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Kobe lies on th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Nojima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fault, a destructive boundary, where the Philippine plate dives below the Eurasian plate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s plate boundary is the reason for Japan's existence but also means that there is a constant earthquake threa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Kobe was unlucky in the sense that the focus of the earthquake was very close to the surface and the epicentre was right beside the city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Primary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d a death toll of approximately 5,500, with another 30,000 injured and 250,000 made homeles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 100,000 buildings collaps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rastructure damage included a 1km stretch of elevated road, numerous railway bridges, and 120 of the city's 150 qu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Secondary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d the fact that electricity, gas, water and sewage systems were all hugely disrup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ergency services found it very difficult to get into the city due to the massive destruction of the road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temporary shelters were required, as well as food and medicin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d weather meant that diseases spread quick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Secondary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week after the earthquake fires still were burning, 2 million homes still were without power and 1 million were without wat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es destroyed over 7,000 more hom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ndreds of aftershocks, 74 strong enough for people to feel, meant people were too afraid to return to their homes for weeks after the ev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Secondary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ugh new laws, building codes and emergency plans were brought in after criticism of the Japanese Governme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 is continuing to try to predict future earthquakes, but as yet there is very little way of giving any significant warning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4:09:42Z</dcterms:created>
  <dc:creator>Dell_02</dc:creator>
  <dc:description/>
  <dc:language>en-US</dc:language>
  <cp:lastModifiedBy>Dell_02</cp:lastModifiedBy>
  <dcterms:modified xsi:type="dcterms:W3CDTF">2011-01-26T14:19:01Z</dcterms:modified>
  <cp:revision>1</cp:revision>
  <dc:subject/>
  <dc:title>Earthquake In A MEDC</dc:title>
</cp:coreProperties>
</file>